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E76F4C-5643-4441-ABB2-D9B83872C1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68ED87-C6A0-4541-976E-A8C5346141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253362-0677-4070-8DE2-528498302B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13CDC1-A351-4F1F-9803-971F7A2106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7355F6-6EB4-416B-8D80-E2C52F9D13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2D4D8E-C661-4445-9889-54C67DA717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D02E7E-9DD9-41F8-AE4B-8597263FB3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7ED6A5-BACD-4ED3-9780-DB7C2A0964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B8B9D8-A914-4089-B0B4-D00C56C761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3271CE-E924-4637-8437-EC55F16813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447D82-3A3C-46E6-A550-D6DC173BAE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040B6-0783-4C0A-B4FB-D6C0D376BC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72770-EAEE-4953-8303-2658C5CA4074}"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476280"/>
            <a:ext cx="7772400" cy="201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rebuchet MS"/>
              </a:rPr>
              <a:t>Medios de Pago Aceptados a Efectos Tributario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213000"/>
            <a:ext cx="6400800" cy="2425680"/>
          </a:xfrm>
          <a:prstGeom prst="rect">
            <a:avLst/>
          </a:prstGeom>
          <a:noFill/>
          <a:ln w="0">
            <a:noFill/>
          </a:ln>
        </p:spPr>
        <p:txBody>
          <a:bodyPr lIns="90000" rIns="90000" tIns="46800" bIns="46800" anchor="t">
            <a:noAutofit/>
          </a:bodyPr>
          <a:p>
            <a:pPr indent="0" algn="ctr">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Trebuchet MS"/>
              </a:rPr>
              <a:t>Ley Antievasión Nº 25.345</a:t>
            </a:r>
            <a:endParaRPr b="0" lang="en-US" sz="3800" spc="-1" strike="noStrike">
              <a:solidFill>
                <a:srgbClr val="000000"/>
              </a:solidFill>
              <a:latin typeface="Arial"/>
            </a:endParaRPr>
          </a:p>
          <a:p>
            <a:pPr indent="0" algn="ctr">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Trebuchet MS"/>
              </a:rPr>
              <a:t>Limitación a las transacciones en dinero </a:t>
            </a:r>
            <a:endParaRPr b="0" lang="en-US" sz="3800" spc="-1" strike="noStrike">
              <a:solidFill>
                <a:srgbClr val="000000"/>
              </a:solidFill>
              <a:latin typeface="Arial"/>
            </a:endParaRPr>
          </a:p>
          <a:p>
            <a:pPr indent="0" algn="ctr">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Trebuchet MS"/>
              </a:rPr>
              <a:t>en efectivo</a:t>
            </a:r>
            <a:endParaRPr b="0" lang="en-US" sz="3800" spc="-1" strike="noStrike">
              <a:solidFill>
                <a:srgbClr val="000000"/>
              </a:solidFill>
              <a:latin typeface="Arial"/>
            </a:endParaRPr>
          </a:p>
          <a:p>
            <a:pPr indent="0" algn="ctr">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a:p>
            <a:pPr indent="0" algn="ctr">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Sumarios de Jurisprudencia</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Epuyen S.A. s/ Acción de inconstitucionalidad – C. Fed. Apel. Paraná – 14/11/2006</a:t>
            </a:r>
            <a:endParaRPr b="0" lang="en-US" sz="2600" spc="-1" strike="noStrike">
              <a:solidFill>
                <a:srgbClr val="000000"/>
              </a:solidFill>
              <a:latin typeface="Arial"/>
            </a:endParaRPr>
          </a:p>
          <a:p>
            <a:pPr marL="33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000000"/>
                </a:solidFill>
                <a:latin typeface="Arial"/>
              </a:rPr>
              <a:t>La Cámara declara inconstitucional el art. 2 de la Ley 25.345 en tanto se contradice con el art. 34 de la ley de Procedimiento Fiscal (11.683), al no admitir prueba en contrario, en lo que respecta a la realidad de la operación, en ocasión de imposibilidad de efectuar el pago por circuito bancario. La inconstitucionalidad de la norma, surge a partir de la expresión “aun cuando éstos acreditaren la veracidad de las operacion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Arial"/>
              </a:rPr>
              <a:t>Miguel Pascuzzi e Hijos S.A. – T. Fiscal de la Nación - SALA A - 21/11/2005</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Arial"/>
              </a:rPr>
              <a:t>	</a:t>
            </a:r>
            <a:r>
              <a:rPr b="0" lang="es-AR" sz="3200" spc="-1" strike="noStrike">
                <a:solidFill>
                  <a:srgbClr val="000000"/>
                </a:solidFill>
                <a:latin typeface="Arial"/>
              </a:rPr>
              <a:t>Se pronuncia el Tribunal en orden de la imposibilidad de prueba en contrario, acerca de la veracidad de las operaciones no canceladas de acuerdo a los medios que establece la L. 25.345. Esto, constituye una alteración en las pautas de equidad, no se respeta el principio de igualdad. El art. 2 de la misma resulta contrario al art. 14 de la L. 11.68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Arraras, Eliseo Antonio – C.N.Fed. Cont. Adm. – Sala IV – 02/03/2010</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0" lang="es-ES_tradnl" sz="2800" spc="-1" strike="noStrike">
                <a:solidFill>
                  <a:srgbClr val="000000"/>
                </a:solidFill>
                <a:latin typeface="Arial"/>
              </a:rPr>
              <a:t>La Cámara declara incompetente al Tribunal Fiscal de la Nación, en base a recurso de apelación, fundándose en la interpretación del art. 2 de la Ley 25.345, donde se desestima la aplicación del procedimiento de determinación de oficio previsto en la Ley 11.683.</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También fundamenta otro de los Magistrados, que los fines de comprobación por parte del Fisco respecto del incumplimiento de los contribuyentes, no es circunstancia suficiente para modificar la clara exclusión efectúa la norma.</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260280"/>
            <a:ext cx="8229600" cy="5865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Arial"/>
              </a:rPr>
              <a:t>Inchauspe, Martín y Otros – Frigosol SRL (Inc. Apelación) – C.N.P.Econ. – Sala A – 24/08/2007</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AR" sz="3200" spc="-1" strike="noStrike">
                <a:solidFill>
                  <a:srgbClr val="000000"/>
                </a:solidFill>
                <a:latin typeface="Arial"/>
              </a:rPr>
              <a:t>La Cámara considera que no es ajustada a derecho la resolución que dispone el procesamientos por delitos de la Ley Penal Tributaria, derivados del incumplimiento de los arts. 1 y 2 de la Ley 23.345, ya que no encuadra en el comportamiento que prescribe el art. 1 de la Ley 24.76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7200" y="260280"/>
            <a:ext cx="8229600" cy="58658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Arial"/>
              </a:rPr>
              <a:t>Rappen Automotores SA c/AFIP s/acción declarativa. Incidente de medida cautelar  Juzg. Fed. de Río Cuarto - 16/12/2003</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AR" sz="2800" spc="-1" strike="noStrike">
                <a:solidFill>
                  <a:srgbClr val="000000"/>
                </a:solidFill>
                <a:latin typeface="Arial"/>
              </a:rPr>
              <a:t>La RG. 1547 pretende reglamentar la L. 23.345,  pero hay una colisión normativa en tanto la misma establece restricciones no contempladas en la ley en materia de la forma de emisión de los cheques. Expresa también que estando vigente el art. 34 L. 11.683, se mantiene el derecho de producir prueba de operaciones efectuadas con medios de pago diferentes. Se concede la medida cautelar, se declara inconstitucionalidad de la RG. 154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5280" y="274320"/>
            <a:ext cx="829152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Pagos superiores a $ 1.000</a:t>
            </a:r>
            <a:br>
              <a:rPr sz="4000"/>
            </a:br>
            <a:r>
              <a:rPr b="0" i="1" lang="en-US" sz="4000" spc="-1" strike="noStrike">
                <a:solidFill>
                  <a:srgbClr val="000000"/>
                </a:solidFill>
                <a:latin typeface="Arial"/>
              </a:rPr>
              <a:t>deben efectuarse:</a:t>
            </a:r>
            <a:endParaRPr b="0" lang="en-US" sz="4000" spc="-1" strike="noStrike">
              <a:solidFill>
                <a:srgbClr val="000000"/>
              </a:solidFill>
              <a:latin typeface="Arial"/>
            </a:endParaRPr>
          </a:p>
        </p:txBody>
      </p:sp>
      <p:sp>
        <p:nvSpPr>
          <p:cNvPr id="44" name="PlaceHolder 2"/>
          <p:cNvSpPr>
            <a:spLocks noGrp="1"/>
          </p:cNvSpPr>
          <p:nvPr>
            <p:ph/>
          </p:nvPr>
        </p:nvSpPr>
        <p:spPr>
          <a:xfrm>
            <a:off x="457200" y="1989000"/>
            <a:ext cx="8229600" cy="41371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epósitos en cuentas de entidades financiera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Giros o transferencias bancaria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heques/cheques cancelatorio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Tarjetas de crédito, compra o débit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Factura de crédit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Otros procedimientos que autorice el P.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68360" y="404280"/>
            <a:ext cx="8229600" cy="208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Consecuencias de la no utilización de los medios de pago autorizados aun acreditando la veracidad de las operaciones (Art. 2 L. 25.345)</a:t>
            </a:r>
            <a:endParaRPr b="0" lang="en-US" sz="4000" spc="-1" strike="noStrike">
              <a:solidFill>
                <a:srgbClr val="000000"/>
              </a:solidFill>
              <a:latin typeface="Arial"/>
            </a:endParaRPr>
          </a:p>
        </p:txBody>
      </p:sp>
      <p:sp>
        <p:nvSpPr>
          <p:cNvPr id="46" name="PlaceHolder 2"/>
          <p:cNvSpPr>
            <a:spLocks noGrp="1"/>
          </p:cNvSpPr>
          <p:nvPr>
            <p:ph/>
          </p:nvPr>
        </p:nvSpPr>
        <p:spPr>
          <a:xfrm>
            <a:off x="468360" y="2923920"/>
            <a:ext cx="8229600" cy="3660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surten efectos entre partes ni en relación a tercer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sultan computables como deducciones ni como créditos fisca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son válidos a los restantes efectos tributario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Escrituras públicas – Efecto cancelatorio - Decreto 22/2001</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enen efectos cancelatorios los pagos en efectivo en ocasión de otorgamiento de escritura pública que tenga por efecto: </a:t>
            </a:r>
            <a:endParaRPr b="0" lang="en-US" sz="3200" spc="-1" strike="noStrike">
              <a:solidFill>
                <a:srgbClr val="000000"/>
              </a:solidFill>
              <a:latin typeface="Arial"/>
            </a:endParaRPr>
          </a:p>
          <a:p>
            <a:pPr marL="609480" indent="-609480">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tituir</a:t>
            </a:r>
            <a:endParaRPr b="0" lang="en-US" sz="3200" spc="-1" strike="noStrike">
              <a:solidFill>
                <a:srgbClr val="000000"/>
              </a:solidFill>
              <a:latin typeface="Arial"/>
            </a:endParaRPr>
          </a:p>
          <a:p>
            <a:pPr marL="609480" indent="-609480">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ificar</a:t>
            </a:r>
            <a:endParaRPr b="0" lang="en-US" sz="3200" spc="-1" strike="noStrike">
              <a:solidFill>
                <a:srgbClr val="000000"/>
              </a:solidFill>
              <a:latin typeface="Arial"/>
            </a:endParaRPr>
          </a:p>
          <a:p>
            <a:pPr marL="609480" indent="-609480">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larar</a:t>
            </a:r>
            <a:endParaRPr b="0" lang="en-US" sz="3200" spc="-1" strike="noStrike">
              <a:solidFill>
                <a:srgbClr val="000000"/>
              </a:solidFill>
              <a:latin typeface="Arial"/>
            </a:endParaRPr>
          </a:p>
          <a:p>
            <a:pPr marL="609480" indent="-609480">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inguir</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
          <p:cNvSpPr/>
          <p:nvPr/>
        </p:nvSpPr>
        <p:spPr>
          <a:xfrm>
            <a:off x="2771640" y="3645000"/>
            <a:ext cx="722520" cy="2520720"/>
          </a:xfrm>
          <a:custGeom>
            <a:avLst/>
            <a:gdLst>
              <a:gd name="textAreaLeft" fmla="*/ 0 w 722520"/>
              <a:gd name="textAreaRight" fmla="*/ 261000 w 722520"/>
              <a:gd name="textAreaTop" fmla="*/ 65520 h 2520720"/>
              <a:gd name="textAreaBottom" fmla="*/ 2455200 h 252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3995640" y="4221000"/>
            <a:ext cx="381816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rechos reales o de inmuebl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Arial"/>
              </a:rPr>
              <a:t>R.G. 1547 AFIP</a:t>
            </a:r>
            <a:endParaRPr b="0" lang="en-US" sz="4400" spc="-1" strike="noStrike">
              <a:solidFill>
                <a:srgbClr val="000000"/>
              </a:solidFill>
              <a:latin typeface="Arial"/>
            </a:endParaRPr>
          </a:p>
        </p:txBody>
      </p:sp>
      <p:sp>
        <p:nvSpPr>
          <p:cNvPr id="52" name="PlaceHolder 2"/>
          <p:cNvSpPr>
            <a:spLocks noGrp="1"/>
          </p:cNvSpPr>
          <p:nvPr>
            <p:ph/>
          </p:nvPr>
        </p:nvSpPr>
        <p:spPr>
          <a:xfrm>
            <a:off x="468360" y="155736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odalidades de emisión de medios de pago autorizados – Ley antievasión:</a:t>
            </a:r>
            <a:endParaRPr b="0" lang="en-US" sz="3200" spc="-1" strike="noStrike">
              <a:solidFill>
                <a:srgbClr val="000000"/>
              </a:solidFill>
              <a:latin typeface="Arial"/>
            </a:endParaRPr>
          </a:p>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heque común:</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a) Extendido a nombre del beneficiario</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b) Cruzado</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c) Leyenda en el anverso “Para acreditar en cuenta”</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Cheque de pago diferid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A nombre del emisor de la factur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 Cruzad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Cheque cancelatori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A nombre del emisor de la factur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Anotaciones</a:t>
            </a:r>
            <a:endParaRPr b="0" lang="en-US" sz="4000" spc="-1" strike="noStrike">
              <a:solidFill>
                <a:srgbClr val="000000"/>
              </a:solidFill>
              <a:latin typeface="Arial"/>
            </a:endParaRPr>
          </a:p>
        </p:txBody>
      </p:sp>
      <p:sp>
        <p:nvSpPr>
          <p:cNvPr id="55" name="PlaceHolder 2"/>
          <p:cNvSpPr>
            <a:spLocks noGrp="1"/>
          </p:cNvSpPr>
          <p:nvPr>
            <p:ph/>
          </p:nvPr>
        </p:nvSpPr>
        <p:spPr>
          <a:xfrm>
            <a:off x="468360" y="1197000"/>
            <a:ext cx="8229600" cy="51451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dquirente, locatario, prestatario deja constancia del medio de pago utilizado e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Factura o documento equivalent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 Recibo emitido como constancia de pago</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 Cheques de terceros (comunes, de pago diferido, cancelatorios), Nº de CUIT del librado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Alternativa: Registro emitido por computadora que conteng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68360" y="549360"/>
            <a:ext cx="8229600" cy="586584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Fecha de cancelación, identificación del medio de pago y procedimiento de pago utilizado por el locatario o prestatario consignando su importe</a:t>
            </a:r>
            <a:endParaRPr b="0" lang="en-US" sz="3200" spc="-1" strike="noStrike">
              <a:solidFill>
                <a:srgbClr val="000000"/>
              </a:solidFill>
              <a:latin typeface="Arial"/>
            </a:endParaRPr>
          </a:p>
          <a:p>
            <a:pPr marL="609480" indent="-609480">
              <a:spcBef>
                <a:spcPts val="7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UIT del librador o comprador del cheque endosado</a:t>
            </a:r>
            <a:endParaRPr b="0" lang="en-US" sz="3200" spc="-1" strike="noStrike">
              <a:solidFill>
                <a:srgbClr val="000000"/>
              </a:solidFill>
              <a:latin typeface="Arial"/>
            </a:endParaRPr>
          </a:p>
          <a:p>
            <a:pPr marL="609480" indent="-609480">
              <a:spcBef>
                <a:spcPts val="7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UIT de la entidad financiera interviniente</a:t>
            </a:r>
            <a:endParaRPr b="0" lang="en-US" sz="3200" spc="-1" strike="noStrike">
              <a:solidFill>
                <a:srgbClr val="000000"/>
              </a:solidFill>
              <a:latin typeface="Arial"/>
            </a:endParaRPr>
          </a:p>
          <a:p>
            <a:pPr marL="609480" indent="-609480">
              <a:spcBef>
                <a:spcPts val="7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Razón social o apellido y nombre del proveedor, locador o prestador y Nº de CU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po de comprobante </a:t>
            </a:r>
            <a:endParaRPr b="0" lang="en-US" sz="3200" spc="-1" strike="noStrike">
              <a:solidFill>
                <a:srgbClr val="000000"/>
              </a:solidFill>
              <a:latin typeface="Arial"/>
            </a:endParaRPr>
          </a:p>
          <a:p>
            <a:pPr marL="609480" indent="-609480">
              <a:spcBef>
                <a:spcPts val="799"/>
              </a:spcBef>
              <a:buClr>
                <a:srgbClr val="000000"/>
              </a:buClr>
              <a:buFont typeface="Arial"/>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úmero de factura o documento equivalente </a:t>
            </a:r>
            <a:endParaRPr b="0" lang="en-US" sz="3200" spc="-1" strike="noStrike">
              <a:solidFill>
                <a:srgbClr val="000000"/>
              </a:solidFill>
              <a:latin typeface="Arial"/>
            </a:endParaRPr>
          </a:p>
          <a:p>
            <a:pPr marL="609480" indent="-609480">
              <a:spcBef>
                <a:spcPts val="799"/>
              </a:spcBef>
              <a:buClr>
                <a:srgbClr val="000000"/>
              </a:buClr>
              <a:buFont typeface="Arial"/>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e de la operación</a:t>
            </a:r>
            <a:endParaRPr b="0" lang="en-US" sz="3200" spc="-1" strike="noStrike">
              <a:solidFill>
                <a:srgbClr val="000000"/>
              </a:solidFill>
              <a:latin typeface="Arial"/>
            </a:endParaRPr>
          </a:p>
          <a:p>
            <a:pPr marL="609480" indent="-609480">
              <a:spcBef>
                <a:spcPts val="799"/>
              </a:spcBef>
              <a:buClr>
                <a:srgbClr val="000000"/>
              </a:buClr>
              <a:buFont typeface="Arial"/>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po de moneda</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7T17:35:53Z</dcterms:created>
  <dc:creator>WinuE</dc:creator>
  <dc:description/>
  <dc:language>en-US</dc:language>
  <cp:lastModifiedBy>WinuE</cp:lastModifiedBy>
  <dcterms:modified xsi:type="dcterms:W3CDTF">2012-09-21T14:53:09Z</dcterms:modified>
  <cp:revision>6</cp:revision>
  <dc:subject/>
  <dc:title>Medios de Pago Aceptados a Efectos Tributarios</dc:title>
</cp:coreProperties>
</file>